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5DB2-2DAC-4009-B83D-2908D965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7C0-48A2-4387-8A9C-729692CE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E51-4F95-478D-B7E0-7B3B2300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E2B-11B7-4511-AB07-B176CCB3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A203-2CB7-43C5-BCE2-7F7779D3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5748-7993-482C-85DB-582342ED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D953-E856-48B2-B419-9857A84B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C08B-4AEA-4C74-A532-A56C5719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417A-D5CA-4CBF-BD57-CD70BF7D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6435-EEA3-467F-BA8E-108631D1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F36C-A49C-43DC-A627-D9A997FE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935-5A83-4E92-9C1F-9563F1A9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F79D-64AC-402F-BF77-D39AE84D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5F9B-E21A-421F-8CDA-684913D5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7E01-D992-44D3-9063-C47BD65B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0365-E485-4EDA-9167-B000DC81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1D07-3A08-47AC-9B56-649324F0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DFB2D-F6A6-4C97-899E-670D8801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9085B-1D92-4056-9F47-23A48FEF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F47ED-A390-4E0A-9101-0A522338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8B9D8-A8E2-41A0-8F2D-F2F296F9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BEF48-E9F0-4391-BB4E-B1FDA9AA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122-371A-4C24-A49C-52D832FF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2F87D-E0BA-4219-9893-5943DD4B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13546-B88A-4AAA-A916-13C2F97B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9E70E-0FA5-431B-849A-73BCD66F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566F6-AA53-4B11-98BA-B6F6D0FB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E4D11-9224-4864-AA2A-662C89E6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120C8-6002-4A6E-B9EC-4E82C53D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52177-D797-4E99-A6F0-A0CE5934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12F-8DBF-488D-94F7-ED470645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F59-13A0-4F38-A994-C062BD7A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8C93-10EF-4353-853C-A1E4CCB4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7A4-6706-4CF4-8125-96176068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A87-2E2A-4F45-BE6C-78407229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29E-A06D-4DD0-9521-7D4B0664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AF02-B28A-4F9B-8806-944534154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8A70-4B1F-4E45-AED0-390E8E32B6C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F76E-694F-4803-BA80-209386B8C88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46483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ien fa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00400" y="44197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Ils sont très joli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2819520"/>
            <a:ext cx="28954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28600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yez prud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8120" y="533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e mange pas tou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4267080"/>
            <a:ext cx="327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’est un peu trop f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28600"/>
            <a:ext cx="358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on anniversaire Bébé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 made the brea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 made the bowl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as uncle Gaston do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as aunt Lison do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as Mother sew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 planted the flow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as Arlette pick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as Arthur eat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ere the cousins play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se birthday was 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172200" y="3581280"/>
            <a:ext cx="28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l sent bi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828800" y="20574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l fabrique beaucou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50292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’est un grand poiss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400800" y="3276720"/>
            <a:ext cx="2743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le chante bel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06:17Z</dcterms:created>
  <dc:creator>CVJH-LAB</dc:creator>
  <dc:description/>
  <dc:language>en-US</dc:language>
  <cp:lastModifiedBy>nield411</cp:lastModifiedBy>
  <dcterms:modified xsi:type="dcterms:W3CDTF">2008-02-26T04:40:57Z</dcterms:modified>
  <cp:revision>14</cp:revision>
  <dc:subject/>
  <dc:title>Slide 1</dc:title>
</cp:coreProperties>
</file>